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07/16/9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##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agi, 2(7)  page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CA5E55-48A8-4FDD-910C-858F68FD9B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447920" y="1257120"/>
            <a:ext cx="63244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742840" y="2590560"/>
            <a:ext cx="617220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742840" y="4341960"/>
            <a:ext cx="617220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2A4068-8D21-4D1C-95C9-2232B94B05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447920" y="1257120"/>
            <a:ext cx="63244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742840" y="2590560"/>
            <a:ext cx="301176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05440" y="2590560"/>
            <a:ext cx="301176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742840" y="4341960"/>
            <a:ext cx="301176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05440" y="4341960"/>
            <a:ext cx="301176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809587-733D-47C5-B1FE-B69833CD5F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447920" y="1257120"/>
            <a:ext cx="63244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742840" y="2590560"/>
            <a:ext cx="198720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29760" y="2590560"/>
            <a:ext cx="198720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16680" y="2590560"/>
            <a:ext cx="198720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742840" y="4341960"/>
            <a:ext cx="198720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29760" y="4341960"/>
            <a:ext cx="198720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16680" y="4341960"/>
            <a:ext cx="198720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8E6177-C2DA-4E13-8CDF-7DE35E8732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73465-FE68-4F12-B12D-6A6D5430802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47920" y="1257120"/>
            <a:ext cx="63244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742840" y="2590560"/>
            <a:ext cx="617220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9CF2D-3B7C-4697-B3D0-DA05B817FC7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47920" y="1257120"/>
            <a:ext cx="63244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742840" y="2590560"/>
            <a:ext cx="617220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9AED4-B7FB-41B8-A014-26C53C6B664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47920" y="1257120"/>
            <a:ext cx="63244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742840" y="2590560"/>
            <a:ext cx="301176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905440" y="2590560"/>
            <a:ext cx="301176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A7064-3BFD-4C76-84AE-CA915AE001C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47920" y="1257120"/>
            <a:ext cx="63244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F306A-86BA-4969-8F54-058AF5E5372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447920" y="1257120"/>
            <a:ext cx="632448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1AC0E-19F9-4884-BC5B-BAA0C4B73E6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47920" y="1257120"/>
            <a:ext cx="63244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742840" y="2590560"/>
            <a:ext cx="301176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905440" y="2590560"/>
            <a:ext cx="301176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742840" y="4341960"/>
            <a:ext cx="301176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A53FF-BAD6-45B5-8B55-F711EC54A92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47920" y="1257120"/>
            <a:ext cx="63244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742840" y="2590560"/>
            <a:ext cx="617220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D61FEB-235A-4C7F-AF38-4BF526009F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47920" y="1257120"/>
            <a:ext cx="63244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742840" y="2590560"/>
            <a:ext cx="301176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905440" y="2590560"/>
            <a:ext cx="301176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905440" y="4341960"/>
            <a:ext cx="301176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520D0-241D-469E-9DE8-0E451D9DECA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47920" y="1257120"/>
            <a:ext cx="63244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742840" y="2590560"/>
            <a:ext cx="301176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905440" y="2590560"/>
            <a:ext cx="301176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742840" y="4341960"/>
            <a:ext cx="617220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BA18F-AD3A-4A61-A795-00B83439FA5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47920" y="1257120"/>
            <a:ext cx="63244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742840" y="2590560"/>
            <a:ext cx="617220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742840" y="4341960"/>
            <a:ext cx="617220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FB459-719F-49B5-B3CD-931120B1B7D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47920" y="1257120"/>
            <a:ext cx="63244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42840" y="2590560"/>
            <a:ext cx="301176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905440" y="2590560"/>
            <a:ext cx="301176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742840" y="4341960"/>
            <a:ext cx="301176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905440" y="4341960"/>
            <a:ext cx="301176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CE0DD-4E1B-4F87-9527-1C40A2F513D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447920" y="1257120"/>
            <a:ext cx="63244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742840" y="2590560"/>
            <a:ext cx="198720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9760" y="2590560"/>
            <a:ext cx="198720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916680" y="2590560"/>
            <a:ext cx="198720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742840" y="4341960"/>
            <a:ext cx="198720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829760" y="4341960"/>
            <a:ext cx="198720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916680" y="4341960"/>
            <a:ext cx="198720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F5C46-C0B1-4978-A521-AB51EA9EBFD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447920" y="1257120"/>
            <a:ext cx="63244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742840" y="2590560"/>
            <a:ext cx="617220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E2F928-063E-471F-AF20-DC0A7F9EC3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47920" y="1257120"/>
            <a:ext cx="63244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42840" y="2590560"/>
            <a:ext cx="301176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05440" y="2590560"/>
            <a:ext cx="301176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A420FB-AFD1-4833-B1DB-95A9A7F017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47920" y="1257120"/>
            <a:ext cx="63244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A8563F-BDE6-4258-8F88-4703A5E54D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447920" y="1257120"/>
            <a:ext cx="632448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CFAD06-BF57-4167-A8C6-664EEDBB8E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47920" y="1257120"/>
            <a:ext cx="63244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742840" y="2590560"/>
            <a:ext cx="301176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05440" y="2590560"/>
            <a:ext cx="301176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742840" y="4341960"/>
            <a:ext cx="301176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3141B6-7E4F-4364-B1D0-9788D9B51E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47920" y="1257120"/>
            <a:ext cx="63244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742840" y="2590560"/>
            <a:ext cx="301176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05440" y="2590560"/>
            <a:ext cx="301176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05440" y="4341960"/>
            <a:ext cx="301176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CC03B5-0434-4443-AC12-6468067312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47920" y="1257120"/>
            <a:ext cx="63244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742840" y="2590560"/>
            <a:ext cx="301176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05440" y="2590560"/>
            <a:ext cx="301176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742840" y="4341960"/>
            <a:ext cx="617220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507922-C07D-4334-970C-1F831449AE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57200" y="458640"/>
            <a:ext cx="1676520" cy="639936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143000" y="0"/>
            <a:ext cx="1447920" cy="380988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447920" y="1143000"/>
            <a:ext cx="6324480" cy="137160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447920" y="1257120"/>
            <a:ext cx="63244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742840" y="2590560"/>
            <a:ext cx="617220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spcBef>
                <a:spcPts val="700"/>
              </a:spcBef>
              <a:buClr>
                <a:srgbClr val="ffcc66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472040" indent="-210240">
              <a:spcBef>
                <a:spcPts val="700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1892520" indent="-210240">
              <a:spcBef>
                <a:spcPts val="700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1892520" indent="-2102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1892520" indent="-2102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3657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96E32-76D0-4A85-9896-A64C01EBB21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457200" y="458640"/>
            <a:ext cx="1676520" cy="639936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143000" y="0"/>
            <a:ext cx="1447920" cy="380988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143000"/>
            <a:ext cx="6324480" cy="137160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447920" y="121896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81040" y="6086520"/>
            <a:ext cx="1333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ftr" idx="2"/>
          </p:nvPr>
        </p:nvSpPr>
        <p:spPr>
          <a:xfrm>
            <a:off x="-360" y="5943600"/>
            <a:ext cx="2590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3"/>
          </p:nvPr>
        </p:nvSpPr>
        <p:spPr>
          <a:xfrm>
            <a:off x="40384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03BCD-B350-43AB-9314-54B101319CB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cc66"/>
              </a:buClr>
              <a:buSzPct val="75000"/>
              <a:buFont typeface="Monotype Sorts" charset="2"/>
              <a:buChar char="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ffcc66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ffcc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thiagi.com/email-101tips.html" TargetMode="External"/><Relationship Id="rId2" Type="http://schemas.openxmlformats.org/officeDocument/2006/relationships/hyperlink" Target="http://www.thiagi.com/email-101tips.html" TargetMode="External"/><Relationship Id="rId3" Type="http://schemas.openxmlformats.org/officeDocument/2006/relationships/hyperlink" Target="http://www.thiagi.com/email-101tips.html" TargetMode="External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47920" y="121896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E-MAIL GAME</a:t>
            </a:r>
            <a:endParaRPr b="1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2895120" y="2895120"/>
            <a:ext cx="495324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666880" y="228600"/>
            <a:ext cx="6248520" cy="398880"/>
          </a:xfrm>
          <a:prstGeom prst="rect">
            <a:avLst/>
          </a:prstGeom>
          <a:noFill/>
          <a:ln cap="sq"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Times New Roman"/>
              </a:rPr>
              <a:t>Thiagi Game Letter, October 1999, Volume 2 (7), page 5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bd05045_" descr=""/>
          <p:cNvPicPr/>
          <p:nvPr/>
        </p:nvPicPr>
        <p:blipFill>
          <a:blip r:embed="rId1"/>
          <a:stretch/>
        </p:blipFill>
        <p:spPr>
          <a:xfrm>
            <a:off x="2590920" y="2514600"/>
            <a:ext cx="4257720" cy="434340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447920" y="1257120"/>
            <a:ext cx="63244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Round 3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742840" y="2590560"/>
            <a:ext cx="617220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ayers asked to predict which 3 ideas received the highest vot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clude a copy of the list of ide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cilitator scores each prediction on the basis of actual number of votes the 3 ideas receiv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04760" y="1218960"/>
            <a:ext cx="5638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Scoring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742840" y="2590560"/>
            <a:ext cx="617220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coring the person’s choic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601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r the person’s 1st choice, multiple the number of votes that the idea received by 3 and give that number of points to the pers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spcBef>
                <a:spcPts val="499"/>
              </a:spcBef>
              <a:buClr>
                <a:srgbClr val="ffcc66"/>
              </a:buClr>
              <a:buSzPct val="75000"/>
              <a:buFont typeface="Monotype Sorts" charset="2"/>
              <a:buChar char="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nd choice multiple by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spcBef>
                <a:spcPts val="499"/>
              </a:spcBef>
              <a:buClr>
                <a:srgbClr val="ffcc66"/>
              </a:buClr>
              <a:buSzPct val="75000"/>
              <a:buFont typeface="Monotype Sorts" charset="2"/>
              <a:buChar char="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nd choice multiple by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601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d the 3 numbers together for each person’s sco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94920" y="1257120"/>
            <a:ext cx="6629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Announcing the Winner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590560" y="2590560"/>
            <a:ext cx="65530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nd an e-mail announcing the results and includ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st showing order of popularity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Round 2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st showing predicted result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Round 3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with actual result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Round 2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layer with the highest total score wins the g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j0078629" descr=""/>
          <p:cNvPicPr/>
          <p:nvPr/>
        </p:nvPicPr>
        <p:blipFill>
          <a:blip r:embed="rId1"/>
          <a:stretch/>
        </p:blipFill>
        <p:spPr>
          <a:xfrm>
            <a:off x="0" y="4038480"/>
            <a:ext cx="2778120" cy="281952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447920" y="1257120"/>
            <a:ext cx="63244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Debriefing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742840" y="2590560"/>
            <a:ext cx="617220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cilitator reflects on the merit and implementation of the top ide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st of open-ended ques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courage reasons behind sel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47920" y="1257120"/>
            <a:ext cx="63244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Purpos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742840" y="2590560"/>
            <a:ext cx="617220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nerate and share ideas via e-mail about how to handle any challeng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pe01760_" descr=""/>
          <p:cNvPicPr/>
          <p:nvPr/>
        </p:nvPicPr>
        <p:blipFill>
          <a:blip r:embed="rId1"/>
          <a:stretch/>
        </p:blipFill>
        <p:spPr>
          <a:xfrm>
            <a:off x="5181480" y="3422520"/>
            <a:ext cx="2319480" cy="343548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447920" y="1257120"/>
            <a:ext cx="63244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Length of Gam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742840" y="2590560"/>
            <a:ext cx="617220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 da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de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 wee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ximu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j0078842" descr=""/>
          <p:cNvPicPr/>
          <p:nvPr/>
        </p:nvPicPr>
        <p:blipFill>
          <a:blip r:embed="rId1"/>
          <a:stretch/>
        </p:blipFill>
        <p:spPr>
          <a:xfrm>
            <a:off x="6248520" y="3753000"/>
            <a:ext cx="2571480" cy="310500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447920" y="1257120"/>
            <a:ext cx="63244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Participants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742840" y="2590560"/>
            <a:ext cx="617220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de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n to thirty participa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bd05451_" descr=""/>
          <p:cNvPicPr/>
          <p:nvPr/>
        </p:nvPicPr>
        <p:blipFill>
          <a:blip r:embed="rId1"/>
          <a:stretch/>
        </p:blipFill>
        <p:spPr>
          <a:xfrm>
            <a:off x="2743200" y="4346640"/>
            <a:ext cx="4538520" cy="251136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47920" y="1257120"/>
            <a:ext cx="63244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Materials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742840" y="2590560"/>
            <a:ext cx="617220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-mail ac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now how to use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447920" y="1257120"/>
            <a:ext cx="63244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Overview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742840" y="2590560"/>
            <a:ext cx="617220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ree rounds and a debrief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l conducted via e-mai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447920" y="1257120"/>
            <a:ext cx="63244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Preparation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743200" y="2590560"/>
            <a:ext cx="640080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dentify play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rite a thought-provoking “how to” question that summarizes the 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pare a schedu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mplates from the reference source available at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33"/>
                </a:solidFill>
                <a:uFillTx/>
                <a:latin typeface="Arial"/>
                <a:hlinkClick r:id="rId1"/>
              </a:rPr>
              <a:t>http://www.</a:t>
            </a:r>
            <a:r>
              <a:rPr b="0" lang="en-US" sz="2400" spc="-1" strike="noStrike" u="sng">
                <a:solidFill>
                  <a:srgbClr val="ff9933"/>
                </a:solidFill>
                <a:uFillTx/>
                <a:latin typeface="Arial"/>
                <a:hlinkClick r:id="rId2"/>
              </a:rPr>
              <a:t>thiagi</a:t>
            </a:r>
            <a:r>
              <a:rPr b="0" lang="en-US" sz="2400" spc="-1" strike="noStrike" u="sng">
                <a:solidFill>
                  <a:srgbClr val="ff9933"/>
                </a:solidFill>
                <a:uFillTx/>
                <a:latin typeface="Arial"/>
                <a:hlinkClick r:id="rId3"/>
              </a:rPr>
              <a:t>.com/email-101tips.htm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447920" y="1257120"/>
            <a:ext cx="63244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Round 1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742840" y="2590560"/>
            <a:ext cx="617220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cilitator sends an e-mail with overview of the challenge and ga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601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nounces deadline for a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ach players sends the facilitator an e-mail with 3 ideas for handling the 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601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acilitator records all ide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spcBef>
                <a:spcPts val="499"/>
              </a:spcBef>
              <a:buClr>
                <a:srgbClr val="ffcc66"/>
              </a:buClr>
              <a:buSzPct val="75000"/>
              <a:buFont typeface="Monotype Sorts" charset="2"/>
              <a:buChar char="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nerates list of top 10 to 15 ide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447920" y="1257120"/>
            <a:ext cx="63244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Round 2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742840" y="2666880"/>
            <a:ext cx="6172200" cy="335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cilitator post the lists of ideas via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ayers vote on the 3 most appealing ideas in rank ord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cilitator tabulates the votes and ranks the ideas by popular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 points for top idea, 2 points for second and 1 point for the third ide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75000"/>
              <a:buFont typeface="Monotype Sorts" charset="2"/>
              <a:buChar char="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abulate the ideas by popularity and rank ord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7T21:52:41Z</dcterms:created>
  <dc:creator>Dianne Jones</dc:creator>
  <dc:description/>
  <dc:language>en-US</dc:language>
  <cp:lastModifiedBy>dmungai</cp:lastModifiedBy>
  <dcterms:modified xsi:type="dcterms:W3CDTF">2002-07-20T19:56:24Z</dcterms:modified>
  <cp:revision>10</cp:revision>
  <dc:subject/>
  <dc:title>LABEL A DIAGRAM</dc:title>
</cp:coreProperties>
</file>